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99D4-5DF2-461C-82E8-40681B8674AA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F372-2E05-4FBD-A4D6-5CABCA61961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4E7B-C618-472E-89A6-4EB26DCEA2E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2" descr="Picture2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4" descr="Picture4"/>
          <p:cNvPicPr/>
          <p:nvPr/>
        </p:nvPicPr>
        <p:blipFill>
          <a:blip r:embed="rId4"/>
          <a:srcRect l="0" t="18494" r="0" b="0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rcRect l="7032" t="22457" r="6979" b="16399"/>
          <a:stretch/>
        </p:blipFill>
        <p:spPr>
          <a:xfrm>
            <a:off x="324000" y="404640"/>
            <a:ext cx="649080" cy="432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3"/>
          <p:cNvSpPr/>
          <p:nvPr/>
        </p:nvSpPr>
        <p:spPr>
          <a:xfrm>
            <a:off x="252000" y="809640"/>
            <a:ext cx="766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4d4d4d"/>
                </a:solidFill>
                <a:latin typeface="Arial"/>
              </a:rPr>
              <a:t>EUROPEAN UN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08000" y="1844640"/>
            <a:ext cx="87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6720" indent="-396720" algn="ctr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600" spc="-1" strike="noStrike">
                <a:solidFill>
                  <a:srgbClr val="ffffff"/>
                </a:solidFill>
                <a:latin typeface="Calibri"/>
              </a:rPr>
              <a:t>СКУСЕС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800" spc="-1" strike="noStrike">
                <a:solidFill>
                  <a:srgbClr val="ffffff"/>
                </a:solidFill>
                <a:latin typeface="Calibri"/>
              </a:rPr>
              <a:t>София, 16 май 2013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600" spc="-1" strike="noStrike">
                <a:solidFill>
                  <a:srgbClr val="ffffff"/>
                </a:solidFill>
                <a:latin typeface="Calibri"/>
              </a:rPr>
              <a:t>ГД ЕФК, МИЕТ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Calibri"/>
              </a:rPr>
              <a:t>УО на ОП „Конкурентоспособност“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Решения на КН 2012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09.03.2012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писмена процедура на КН за разширяване обхвата на допустимите дейности/разходи по Гаранционен инструмент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(FLPG)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12.04.2012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писмена процедура на КН за обединяване на структурите на УО и МЗ в единен орган; увеличаване на бюджета по процедура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BG161PO003-1.1.04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за внедряване на иновации в производството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Заседание на КН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(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08.06.2012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)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одобрение на Годишния доклад за 2011; Критерии за нисколихвени кредити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(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Покана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JER-009/06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Юли 2012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писмена процедура на КН – увеличаване на бюджета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(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вкл. над 50%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)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за процедури, обявени през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2011-2012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за проекти, успешно преминали оценка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Заседание на КН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(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30.11.2012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)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–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 Критерии за избор на операции за проекта за газовата връзка, клъстери, внедряване на иновации в предприятията, оборудване за приложни цели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; </a:t>
            </a:r>
            <a:r>
              <a:rPr b="0" lang="bg-BG" sz="1900" spc="-1" strike="noStrike">
                <a:solidFill>
                  <a:srgbClr val="050595"/>
                </a:solidFill>
                <a:latin typeface="Calibri"/>
              </a:rPr>
              <a:t>ИГРП за 2013; АУЕР одобрен за конкретен бенефициент. </a:t>
            </a:r>
            <a:r>
              <a:rPr b="0" lang="en-US" sz="1900" spc="-1" strike="noStrike">
                <a:solidFill>
                  <a:srgbClr val="050595"/>
                </a:solidFill>
                <a:latin typeface="Calibri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Calibri"/>
              </a:rPr>
              <a:t>Оптимизиране на процесите по управление на ОПК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Нова управленска структура от </a:t>
            </a:r>
            <a:r>
              <a:rPr b="0" lang="en-US" sz="2400" spc="-1" strike="noStrike">
                <a:solidFill>
                  <a:srgbClr val="050595"/>
                </a:solidFill>
                <a:latin typeface="Calibri"/>
              </a:rPr>
              <a:t>1</a:t>
            </a: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 Май</a:t>
            </a:r>
            <a:r>
              <a:rPr b="0" lang="en-US" sz="2400" spc="-1" strike="noStrike">
                <a:solidFill>
                  <a:srgbClr val="050595"/>
                </a:solidFill>
                <a:latin typeface="Calibri"/>
              </a:rPr>
              <a:t> 2012 – </a:t>
            </a: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единен орга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По-добра организация на работа на У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По-голяма ефективност и мотивац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Директен подход и по-добра комуникация с кандидати и бенефициен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Оптимизиране на процесите по договаряне и плащан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Премахване на двойния контрол – по-бързо договаряне и плащан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Оценката се базира на обективни критер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Въвеждане на пилотно електронно кандидатств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400" spc="-1" strike="noStrike">
                <a:solidFill>
                  <a:srgbClr val="050595"/>
                </a:solidFill>
                <a:latin typeface="Calibri"/>
              </a:rPr>
              <a:t>Аутсорсинг на оценката и мониторинга на проектите по процедура „Енергийна ефективност и зелена икономика“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3588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Информиране и публичнос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148428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000" spc="-1" strike="noStrike">
                <a:solidFill>
                  <a:srgbClr val="050595"/>
                </a:solidFill>
                <a:latin typeface="Calibri"/>
              </a:rPr>
              <a:t>Организиране и провеждане на информационни събития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2 национални кампании по процедура „Енергийна ефективност и зелена икономика“ – </a:t>
            </a:r>
            <a:r>
              <a:rPr b="0" lang="bg-BG" sz="2000" spc="-1" strike="noStrike">
                <a:solidFill>
                  <a:srgbClr val="050595"/>
                </a:solidFill>
                <a:latin typeface="Calibri"/>
              </a:rPr>
              <a:t>в периода 09.07.2012 – 25.07.2012 и в периода 07.10.2012 — 02.11.2012</a:t>
            </a:r>
            <a:r>
              <a:rPr b="0" lang="en-US" sz="20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bg-BG" sz="2000" spc="-1" strike="noStrike">
                <a:solidFill>
                  <a:srgbClr val="050595"/>
                </a:solidFill>
                <a:latin typeface="Calibri"/>
              </a:rPr>
              <a:t>с общо над 1 200 участник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Проведен семинар с журналисти в периода 27.11.2012 – 28.11.2012;</a:t>
            </a:r>
            <a:r>
              <a:rPr b="0" lang="bg-BG" sz="20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Проведени 15 обучения на бенефициенти по 11 процедури с над 960 участн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Официално подписване на договори по 4 процедури за предоставяне на безвъзмездна финансова помощ</a:t>
            </a:r>
            <a:r>
              <a:rPr b="1" lang="en-US" sz="20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1" lang="bg-BG" sz="2000" spc="-1" strike="noStrike">
                <a:solidFill>
                  <a:srgbClr val="050595"/>
                </a:solidFill>
                <a:latin typeface="Calibri"/>
              </a:rPr>
              <a:t>на стойност 242 млн. л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ictur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Subtitle 2"/>
          <p:cNvSpPr/>
          <p:nvPr/>
        </p:nvSpPr>
        <p:spPr>
          <a:xfrm>
            <a:off x="1332000" y="1989000"/>
            <a:ext cx="712764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4800" spc="-1" strike="noStrike">
                <a:solidFill>
                  <a:srgbClr val="ffffff"/>
                </a:solidFill>
                <a:latin typeface="Calibri"/>
              </a:rPr>
              <a:t>Благодаря за Вниманието!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www.opcompetitiveness.b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Годишен доклад 2012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3200" spc="-1" strike="noStrike">
                <a:solidFill>
                  <a:srgbClr val="050595"/>
                </a:solidFill>
                <a:latin typeface="Calibri"/>
              </a:rPr>
              <a:t>Напредък в изпълнението към 31.12.2012.  </a:t>
            </a:r>
            <a:r>
              <a:rPr b="0" lang="en-US" sz="24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3200" spc="-1" strike="noStrike">
                <a:solidFill>
                  <a:srgbClr val="050595"/>
                </a:solidFill>
                <a:latin typeface="Calibri"/>
              </a:rPr>
              <a:t>Постигнати резулта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800" spc="-1" strike="noStrike">
                <a:solidFill>
                  <a:srgbClr val="050595"/>
                </a:solidFill>
                <a:latin typeface="Calibri"/>
              </a:rPr>
              <a:t>Материален и финансов напредъ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800" spc="-1" strike="noStrike">
                <a:solidFill>
                  <a:srgbClr val="050595"/>
                </a:solidFill>
                <a:latin typeface="Calibri"/>
              </a:rPr>
              <a:t>Информация за постигнатите резултати по годи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39672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800" spc="-1" strike="noStrike">
                <a:solidFill>
                  <a:srgbClr val="050595"/>
                </a:solidFill>
                <a:latin typeface="Calibri"/>
              </a:rPr>
              <a:t>Решения на КН на ОП „Конкурентоспособност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3200" spc="-1" strike="noStrike">
                <a:solidFill>
                  <a:srgbClr val="050595"/>
                </a:solidFill>
                <a:latin typeface="Calibri"/>
              </a:rPr>
              <a:t>Оптимизиране на процесите по управление на ОП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3200" spc="-1" strike="noStrike">
                <a:solidFill>
                  <a:srgbClr val="050595"/>
                </a:solidFill>
                <a:latin typeface="Calibri"/>
              </a:rPr>
              <a:t>Информиране и публичност  </a:t>
            </a:r>
            <a:r>
              <a:rPr b="0" lang="en-US" sz="2800" spc="-1" strike="noStrike">
                <a:solidFill>
                  <a:srgbClr val="050595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50595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560" y="43920"/>
            <a:ext cx="900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Брой договори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/</a:t>
            </a:r>
            <a:br>
              <a:rPr sz="4000"/>
            </a:b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Окончателни плащания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– 3</a:t>
            </a: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1.12.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11280" y="2567160"/>
            <a:ext cx="215640" cy="180720"/>
          </a:xfrm>
          <a:prstGeom prst="rect">
            <a:avLst/>
          </a:prstGeom>
          <a:solidFill>
            <a:srgbClr val="23667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954000" y="251784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Брой сключени договор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588960" y="3216240"/>
            <a:ext cx="216000" cy="181080"/>
          </a:xfrm>
          <a:prstGeom prst="rect">
            <a:avLst/>
          </a:prstGeom>
          <a:solidFill>
            <a:srgbClr val="7cc6d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1015920" y="3165480"/>
            <a:ext cx="123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Брой окончателни плащ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250920" y="1773360"/>
            <a:ext cx="83167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50595"/>
                </a:solidFill>
                <a:latin typeface="Franklin Gothic Medium"/>
                <a:ea typeface="Arial"/>
              </a:rPr>
              <a:t>Приоритетни оси 1 и 2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50595"/>
                </a:solidFill>
                <a:latin typeface="Franklin Gothic Medium"/>
                <a:ea typeface="Arial"/>
              </a:rPr>
              <a:t>(брой, с натрупване</a:t>
            </a:r>
            <a:r>
              <a:rPr b="1" lang="bg-BG" sz="1400" spc="-1" strike="noStrike">
                <a:solidFill>
                  <a:srgbClr val="050595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916680" cy="436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" y="43920"/>
            <a:ext cx="900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600" spc="-1" strike="noStrike">
                <a:solidFill>
                  <a:srgbClr val="ffffff"/>
                </a:solidFill>
                <a:latin typeface="Calibri"/>
              </a:rPr>
              <a:t>Стойност на сключени договори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/</a:t>
            </a:r>
            <a:br>
              <a:rPr sz="3600"/>
            </a:br>
            <a:r>
              <a:rPr b="0" lang="bg-BG" sz="3600" spc="-1" strike="noStrike">
                <a:solidFill>
                  <a:srgbClr val="ffffff"/>
                </a:solidFill>
                <a:latin typeface="Calibri"/>
              </a:rPr>
              <a:t>изплатени суми по договори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– 3</a:t>
            </a:r>
            <a:r>
              <a:rPr b="0" lang="bg-BG" sz="3600" spc="-1" strike="noStrike">
                <a:solidFill>
                  <a:srgbClr val="ffffff"/>
                </a:solidFill>
                <a:latin typeface="Calibri"/>
              </a:rPr>
              <a:t>1.12.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684360" y="2565360"/>
            <a:ext cx="215640" cy="181080"/>
          </a:xfrm>
          <a:prstGeom prst="rect">
            <a:avLst/>
          </a:prstGeom>
          <a:solidFill>
            <a:srgbClr val="23667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1042920" y="2460600"/>
            <a:ext cx="183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Стойност на сключени договор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50595"/>
                </a:solidFill>
                <a:latin typeface="Arial"/>
                <a:ea typeface="Arial"/>
              </a:rPr>
              <a:t>(</a:t>
            </a: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в т.ч. прекратени договори</a:t>
            </a:r>
            <a:r>
              <a:rPr b="1" lang="en-US" sz="1200" spc="-1" strike="noStrike">
                <a:solidFill>
                  <a:srgbClr val="050595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684360" y="3541680"/>
            <a:ext cx="215640" cy="181080"/>
          </a:xfrm>
          <a:prstGeom prst="rect">
            <a:avLst/>
          </a:prstGeom>
          <a:solidFill>
            <a:srgbClr val="7cc6d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>
            <a:off x="1065240" y="3448080"/>
            <a:ext cx="181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50595"/>
                </a:solidFill>
                <a:latin typeface="Arial"/>
                <a:ea typeface="Arial"/>
              </a:rPr>
              <a:t>Изплатени суми по договори с окончателни плащ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250920" y="1773360"/>
            <a:ext cx="831672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50595"/>
                </a:solidFill>
                <a:latin typeface="Franklin Gothic Medium"/>
                <a:ea typeface="Arial"/>
              </a:rPr>
              <a:t>Приоритетни оси 1 и 2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50595"/>
                </a:solidFill>
                <a:latin typeface="Franklin Gothic Medium"/>
                <a:ea typeface="Arial"/>
              </a:rPr>
              <a:t>( млн.евро, с натрупване</a:t>
            </a:r>
            <a:r>
              <a:rPr b="1" lang="bg-BG" sz="1400" spc="-1" strike="noStrike">
                <a:solidFill>
                  <a:srgbClr val="050595"/>
                </a:solidFill>
                <a:latin typeface="Arial"/>
                <a:ea typeface="Arial"/>
              </a:rPr>
              <a:t>)</a:t>
            </a:r>
            <a:r>
              <a:rPr b="1" lang="en-US" sz="1400" spc="-1" strike="noStrike">
                <a:solidFill>
                  <a:srgbClr val="050595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Object 2" descr=""/>
          <p:cNvPicPr/>
          <p:nvPr/>
        </p:nvPicPr>
        <p:blipFill>
          <a:blip r:embed="rId1"/>
          <a:stretch/>
        </p:blipFill>
        <p:spPr>
          <a:xfrm>
            <a:off x="1476360" y="1995480"/>
            <a:ext cx="7077240" cy="420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50920" y="1413000"/>
          <a:ext cx="8712000" cy="5132160"/>
        </p:xfrm>
        <a:graphic>
          <a:graphicData uri="http://schemas.openxmlformats.org/drawingml/2006/table">
            <a:tbl>
              <a:tblPr/>
              <a:tblGrid>
                <a:gridCol w="3414600"/>
                <a:gridCol w="1882800"/>
                <a:gridCol w="1770120"/>
                <a:gridCol w="1644480"/>
              </a:tblGrid>
              <a:tr h="46080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оритетна ос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юджет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в евро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говорени 31.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20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евр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. „Развитие на икономика, базирана на знанието и иновационните дейности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10 692 7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1 441  05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3.40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107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. „Повишаване  ефективността на предприятията и развитие на благоприятна бизнес сред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29 0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20 763  99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.54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</a:tr>
              <a:tr h="61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. „Финансови ресурси за развитие на предприятият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50 0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 0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9.71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. „Укрепване на международните пазарни позиции на българската икономик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7 656 8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 897  6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2.67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e8eff2"/>
                    </a:solidFill>
                  </a:tcPr>
                </a:tc>
              </a:tr>
              <a:tr h="29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. „Техническа помощ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 865 9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 815  1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9.85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330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о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162 215 5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30 917 8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0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1</a:t>
                      </a: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Договаряне 2012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4920" y="1341360"/>
          <a:ext cx="8713800" cy="5442120"/>
        </p:xfrm>
        <a:graphic>
          <a:graphicData uri="http://schemas.openxmlformats.org/drawingml/2006/table">
            <a:tbl>
              <a:tblPr/>
              <a:tblGrid>
                <a:gridCol w="4059360"/>
                <a:gridCol w="1630080"/>
                <a:gridCol w="1538280"/>
                <a:gridCol w="1486080"/>
              </a:tblGrid>
              <a:tr h="3272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оритетна ос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щания  31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1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201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евро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общия бюджет на ПО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договорените средства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. „Развитие на икономика, базирана на знанието и иновационните дейности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 792 41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.70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8.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. „Повишаване ефективността на предприятията и развитие на благоприятна бизнес сред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23 315 02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3.3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 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9.31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. „Финансови ресурси за развитие на предприятият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49 000 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9.71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00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. „Укрепване на международните пазарни позиции на българската икономика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0 546 21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8.01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0.22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d3ecf2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. „Техническа помощ“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 803 61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8.12 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8.16</a:t>
                      </a:r>
                      <a:r>
                        <a:rPr b="1" lang="en-US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a8d9e5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                             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о: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00 457 26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3.0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85680" rIns="9360" tIns="936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3.67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3497ae"/>
                      </a:solidFill>
                    </a:lnL>
                    <a:lnR w="5760">
                      <a:solidFill>
                        <a:srgbClr val="3497ae"/>
                      </a:solidFill>
                    </a:lnR>
                    <a:lnT w="5760">
                      <a:solidFill>
                        <a:srgbClr val="3497ae"/>
                      </a:solidFill>
                    </a:lnT>
                    <a:lnB w="5760">
                      <a:solidFill>
                        <a:srgbClr val="3497ae"/>
                      </a:solidFill>
                    </a:lnB>
                    <a:solidFill>
                      <a:srgbClr val="006699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Calibri"/>
              </a:rPr>
              <a:t>Плащания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Calibri"/>
              </a:rPr>
              <a:t>Постигнати резултати 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280" y="1557360"/>
          <a:ext cx="8785440" cy="4565520"/>
        </p:xfrm>
        <a:graphic>
          <a:graphicData uri="http://schemas.openxmlformats.org/drawingml/2006/table">
            <a:tbl>
              <a:tblPr/>
              <a:tblGrid>
                <a:gridCol w="1330560"/>
                <a:gridCol w="1385640"/>
                <a:gridCol w="1517760"/>
                <a:gridCol w="1515960"/>
                <a:gridCol w="1595520"/>
                <a:gridCol w="1440000"/>
              </a:tblGrid>
              <a:tr h="6476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0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01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</a:tr>
              <a:tr h="89208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Създадени работни места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19: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7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12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624: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273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351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756: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318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438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 137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611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60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Общ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: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770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209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жени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-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561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мъж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</a:tr>
              <a:tr h="8924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Брой инвестиционни проект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</a:tr>
              <a:tr h="6476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Създадени инвестиции 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(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евро</a:t>
                      </a: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)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28 357,35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8 130 146,56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6 897 463,42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16 676 044,87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42 432 012,20 €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</a:tr>
              <a:tr h="148572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Брой проекти в подкрепа на бизнеса, предприемачеството и новите технологии**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a0d6e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1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150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2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7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3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51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74</a:t>
                      </a:r>
                      <a:r>
                        <a:rPr b="1" lang="bg-BG" sz="1400" spc="-1" strike="noStrike">
                          <a:solidFill>
                            <a:srgbClr val="050595"/>
                          </a:solidFill>
                          <a:latin typeface="Calibri"/>
                        </a:rPr>
                        <a:t>9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50595"/>
                      </a:solidFill>
                    </a:lnL>
                    <a:lnR w="5760">
                      <a:solidFill>
                        <a:srgbClr val="050595"/>
                      </a:solidFill>
                    </a:lnR>
                    <a:lnT w="5760">
                      <a:solidFill>
                        <a:srgbClr val="050595"/>
                      </a:solidFill>
                    </a:lnT>
                    <a:lnB w="5760">
                      <a:solidFill>
                        <a:srgbClr val="050595"/>
                      </a:solidFill>
                    </a:lnB>
                    <a:solidFill>
                      <a:srgbClr val="e7e7ef"/>
                    </a:solidFill>
                  </a:tcPr>
                </a:tc>
              </a:tr>
            </a:tbl>
          </a:graphicData>
        </a:graphic>
      </p:graphicFrame>
      <p:sp>
        <p:nvSpPr>
          <p:cNvPr id="106" name="TextBox 1"/>
          <p:cNvSpPr/>
          <p:nvPr/>
        </p:nvSpPr>
        <p:spPr>
          <a:xfrm>
            <a:off x="322200" y="6237360"/>
            <a:ext cx="864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50595"/>
                </a:solidFill>
                <a:latin typeface="Arial"/>
              </a:rPr>
              <a:t>* </a:t>
            </a:r>
            <a:r>
              <a:rPr b="0" i="1" lang="bg-BG" sz="1000" spc="-1" strike="noStrike">
                <a:solidFill>
                  <a:srgbClr val="050595"/>
                </a:solidFill>
                <a:latin typeface="Arial"/>
              </a:rPr>
              <a:t>Изплатени средства по приключили проекти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000" spc="-1" strike="noStrike">
                <a:solidFill>
                  <a:srgbClr val="050595"/>
                </a:solidFill>
                <a:latin typeface="Arial"/>
              </a:rPr>
              <a:t>** Проекти, приключили успешно своето изпълнение</a:t>
            </a:r>
            <a:r>
              <a:rPr b="0" i="1" lang="en-US" sz="1000" spc="-1" strike="noStrike">
                <a:solidFill>
                  <a:srgbClr val="050595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Създадени работни места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324000" y="1469880"/>
            <a:ext cx="8569080" cy="515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4000" spc="-1" strike="noStrike">
                <a:solidFill>
                  <a:srgbClr val="ffffff"/>
                </a:solidFill>
                <a:latin typeface="Calibri"/>
              </a:rPr>
              <a:t>Постигнати резултат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46240" y="1484280"/>
            <a:ext cx="8718480" cy="504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12:15:19Z</dcterms:created>
  <dc:creator>e.gerdjikova</dc:creator>
  <dc:description/>
  <dc:language>en-US</dc:language>
  <cp:lastModifiedBy>MEET</cp:lastModifiedBy>
  <dcterms:modified xsi:type="dcterms:W3CDTF">2013-05-15T07:18:49Z</dcterms:modified>
  <cp:revision>303</cp:revision>
  <dc:subject/>
  <dc:title>Slide 1</dc:title>
</cp:coreProperties>
</file>